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2B4D-1AB3-4B3D-A5F6-127ECFA2FFA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9BDE-7A3A-424C-9E55-62F57F16BBF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D0E9-7FCE-439B-A3B6-444480A5008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691B-503A-4084-A9B9-CF586D5AEB87}"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2E3E-C0D5-4D7A-8457-C3274C43D92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5B2E-5534-4213-B6C7-2E00AD5D655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20C4-4FB9-4DCB-9383-D94901B66D4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444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F46D-DD2F-4BEE-A1F6-8C0696C6CA8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1FA5F-2A1F-4767-8A17-F3173E204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8E56-7116-4570-9E05-04C32F5B1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6F880-A88D-4A4A-91BE-105D8746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F8CFE-EEF9-414D-818A-25F946408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6349-C368-4D57-A11D-49762A108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EC79F-D436-477C-9BFA-8BD6E7CF7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4776-AFFF-46A5-90F9-53DA3F87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6360E-3D3C-4B0C-A8D0-C1C3D819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E0F09-7310-4417-82E8-E9203A35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F673-D6BB-4068-BCF2-7A3841A9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9F05-4A44-4E19-B45E-288489E1B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1868-1720-4465-AA25-409C79262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FD14-E2B6-4BA8-A3B3-EC668A6FD7C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97B4-A6C6-4D95-9619-42A8A53C486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ИНТРАОПЕРАТИВНЕ И ПОСТОПЕРАТИВНЕ КОМПЛИКА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75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a:t>
            </a:r>
            <a:r>
              <a:rPr b="0" lang="en-US" sz="1400" spc="-1" strike="noStrike">
                <a:solidFill>
                  <a:srgbClr val="000000"/>
                </a:solidFill>
                <a:latin typeface="Palatino Linotype"/>
              </a:rPr>
              <a:t>4</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0 - 42</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CS" sz="1400" spc="-1" strike="noStrike">
                <a:solidFill>
                  <a:srgbClr val="000000"/>
                </a:solidFill>
                <a:latin typeface="Palatino Linotype"/>
              </a:rPr>
              <a:t>    </a:t>
            </a:r>
            <a:r>
              <a:rPr b="1" lang="sr-CS" sz="1400" spc="-1" strike="noStrike">
                <a:solidFill>
                  <a:srgbClr val="000000"/>
                </a:solidFill>
                <a:latin typeface="Palatino Linotype"/>
              </a:rPr>
              <a:t>Компликације у току хируршких захвата, постоперативне комплијације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6141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7FEF-1E8B-4661-B301-737131B2807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6" name="TextBox 10"/>
          <p:cNvSpPr/>
          <p:nvPr/>
        </p:nvSpPr>
        <p:spPr>
          <a:xfrm>
            <a:off x="444600" y="1757520"/>
            <a:ext cx="81946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у току уши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у због неправилног држања игле у иглодржачу или због некоректне технике шив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глу треба чврсто држати иглодржачем , са затвореним затварачким механизмом, тако да се онемогући покретљивост игле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тисак иглом се врши у правцу закривљености саме игле, што је једини сигуран начин да се спречи њено кривљење или ломљење.</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24560"/>
            <a:ext cx="3976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DDA2-040F-4698-9B08-685DFF66649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11" name="TextBox 8"/>
          <p:cNvSpPr/>
          <p:nvPr/>
        </p:nvSpPr>
        <p:spPr>
          <a:xfrm>
            <a:off x="444600" y="1623960"/>
            <a:ext cx="81817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7"/>
          <p:cNvSpPr/>
          <p:nvPr/>
        </p:nvSpPr>
        <p:spPr>
          <a:xfrm>
            <a:off x="444600" y="1587600"/>
            <a:ext cx="81946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иљ ушивања је да се мукопериостални режањ после операције врати и постави на исто место са ког је одигнут ( најчешћ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ово постигло, треба водити рачуна да се при постављању шавова и њиховом затезању правац шава планира тако да не долази до прегибања и дислоцирања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е везивања шава треба га стегнути да би се проверило да ли је ткиво приближено на адекватан начин и да ли је режањ на жељеном мес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ликом везивања шавова ткиво не треба стегнути превише чврсто јер се може изазвати некроза режња на том месту, а и постоперативни едем може довести до усецања шавова у ткиво.</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14"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301A-AB3A-46A3-BD9E-19890DC91C5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9"/>
          <p:cNvSpPr/>
          <p:nvPr/>
        </p:nvSpPr>
        <p:spPr>
          <a:xfrm>
            <a:off x="444600" y="2009880"/>
            <a:ext cx="8242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ојаве које отежавају или продужавају постоперативни то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ке од ових компликација ( бол, едем ) су неизбежне и не представљају терапијски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 друге стране, постоје компликације које могу да угрозе исход операције или услове реоперацију ( крварење,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постоперативне компликације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 едем, крварење ( хематом ), инфекција, емфизем, дехисценција шава и фиброзно зараста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5741-923B-4B24-AB87-0689FF57102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93560" y="1552680"/>
            <a:ext cx="8180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БО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след трауме може да се очекује после већине оралнохируршких интервенција и јавља се као последица ослобађања супстанција које представљају медијаторе б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тра се да је интезитет бола максималан 3-5 часова после захвата,а након престанка локал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пак , присуство изразитог бола вероватно је знак неке друге компликациј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у постоперативном периоду се ординирају благи аналгетици јер би употреба снажних аналгетика могла да маскира настанак неке озбиљније компликациј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36A4-BE50-4DF7-A52E-02B348BB7A2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8" name="TextBox 6"/>
          <p:cNvSpPr/>
          <p:nvPr/>
        </p:nvSpPr>
        <p:spPr>
          <a:xfrm>
            <a:off x="469800" y="172080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е као последица директне повреде крвних и лимфних судова за време оперативног захвата и акумулације ткивне течности у оперисаној реги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и едем је уобичајена појава после орално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ично трају 3 – 7 д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нас се у лечењу едема користе: хладни облози, протеолитички ензими, кортикостероиди, ултразвук и ласер мале снаг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a:t>
            </a:r>
            <a:r>
              <a:rPr b="1" i="1" lang="sr-CS" sz="4000" spc="-1" strike="noStrike">
                <a:solidFill>
                  <a:srgbClr val="000066"/>
                </a:solidFill>
                <a:latin typeface="Palatino Linotype"/>
              </a:rPr>
              <a:t>е</a:t>
            </a:r>
            <a:endParaRPr b="1" lang="en-US" sz="4000" spc="-1" strike="noStrike">
              <a:solidFill>
                <a:srgbClr val="000066"/>
              </a:solidFill>
              <a:latin typeface="Palatino Linotype"/>
            </a:endParaRPr>
          </a:p>
        </p:txBody>
      </p:sp>
      <p:sp>
        <p:nvSpPr>
          <p:cNvPr id="13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A947-0241-4D35-B0F5-B97E5AEB932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3" name="TextBox 6"/>
          <p:cNvSpPr/>
          <p:nvPr/>
        </p:nvSpPr>
        <p:spPr>
          <a:xfrm>
            <a:off x="480960" y="1757520"/>
            <a:ext cx="8182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КРВАРЕ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о крварење може да буде последица пропуста у извођењу поступка хемостазе или настајању инфекције р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кундарно крварење због инфекције ране настаје изузетно ретко, као последица разградње коагул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a:t>
            </a:r>
            <a:r>
              <a:rPr b="1" i="1" lang="sr-CS" sz="4000" spc="-1" strike="noStrike">
                <a:solidFill>
                  <a:srgbClr val="000066"/>
                </a:solidFill>
                <a:latin typeface="Palatino Linotype"/>
              </a:rPr>
              <a:t>је</a:t>
            </a:r>
            <a:endParaRPr b="1" lang="en-US" sz="4000" spc="-1" strike="noStrike">
              <a:solidFill>
                <a:srgbClr val="000066"/>
              </a:solidFill>
              <a:latin typeface="Palatino Linotype"/>
            </a:endParaRPr>
          </a:p>
        </p:txBody>
      </p:sp>
      <p:sp>
        <p:nvSpPr>
          <p:cNvPr id="135"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EADB-B95F-48EE-8F3D-C64AA17EB42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8" name="TextBox 9"/>
          <p:cNvSpPr/>
          <p:nvPr/>
        </p:nvSpPr>
        <p:spPr>
          <a:xfrm>
            <a:off x="469800" y="1697040"/>
            <a:ext cx="8169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ФЕКЦИЈ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а инфекција је ретка компликација у оралној хирургији, бар када је реч о операцијама тзв. хладних случајева, односно када преоперативно не постоје видљиви знаци инфек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акса која би могла да се препоручи јесте да се антибиотици преписују постоперативно само када настане инфекција или се створи хематом, као и у случајевима када се већ ради у инфицираном подручју ( импактирани умњаци са перикоронитисо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0"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8FC5-B196-4419-B684-A7CEDF163BA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8"/>
          <p:cNvSpPr/>
          <p:nvPr/>
        </p:nvSpPr>
        <p:spPr>
          <a:xfrm>
            <a:off x="444600" y="1781280"/>
            <a:ext cx="8242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зрок постоперативних интервенција се не може са сигурношћу установит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је да пропуст у обради оперативног поља, уз присуство мобилних коштаних фрагмената ( интеррадикуларног септума или слободне коштане ламеле ), може да представља разлог настанка ове компликациј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 треба испустити из вида ни смањену отпорност организма  из неких општих разлога ( пацијенти на кортикостероидима, пацијенти на радиотерапији у регији хируршког захват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8991-BCFB-40F0-9255-3245DE02C91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8" name="TextBox 6"/>
          <p:cNvSpPr/>
          <p:nvPr/>
        </p:nvSpPr>
        <p:spPr>
          <a:xfrm>
            <a:off x="433440" y="1671480"/>
            <a:ext cx="8240760" cy="40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7"/>
          <p:cNvSpPr/>
          <p:nvPr/>
        </p:nvSpPr>
        <p:spPr>
          <a:xfrm>
            <a:off x="457200" y="174456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ретка компликација и настаје утискивањем ваздуха у супкутана или субмукозн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остоперативном периоду, емфизем може да настане у условима појачаног притиска у устима или носу ( дување на нос, кијање, свирање дувачких инструмената.. ), после операција у којима је био успостављен контакт са синусом или носом (затварање ороантралне комуникације, ревизија слузокоже синуса, пластика ороантралне комуникациј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7E4D-4D99-476B-A8A3-B6FCE0A76B0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48920" y="-360"/>
            <a:ext cx="8489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4" name="TextBox 6"/>
          <p:cNvSpPr/>
          <p:nvPr/>
        </p:nvSpPr>
        <p:spPr>
          <a:xfrm>
            <a:off x="446040" y="1647720"/>
            <a:ext cx="8204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ДЕХИСЦЕНЦИЈА ША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аздвајање ивица ране после уклањања шавова може да се деси уколико они нису били постављени на чврсту коштану подлогу, или уколико се при ушивању није водило рачуна да се међусобно приљубе две свеже рањаве површине мукопериосталног реж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 могућности настанка ове компликације треба водити рачуна већ у току планирања операције, па рез поставити на месту где неће бити будући коштани дефек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сто тако, приликом ушивања, треба онемогућити подвијање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74BA-9077-4C8E-AC90-4BAD0BD7243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252000" y="122040"/>
            <a:ext cx="865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5" name="TextBox 6"/>
          <p:cNvSpPr/>
          <p:nvPr/>
        </p:nvSpPr>
        <p:spPr>
          <a:xfrm>
            <a:off x="433440" y="1720800"/>
            <a:ext cx="8265960" cy="501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a:t>
            </a:r>
            <a:r>
              <a:rPr b="0" lang="en-US" sz="2000" spc="-1" strike="noStrike">
                <a:solidFill>
                  <a:srgbClr val="000000"/>
                </a:solidFill>
                <a:latin typeface="Palatino Linotype"/>
              </a:rPr>
              <a:t>e</a:t>
            </a:r>
            <a:r>
              <a:rPr b="0" lang="sr-CS" sz="2000" spc="-1" strike="noStrike">
                <a:solidFill>
                  <a:srgbClr val="000000"/>
                </a:solidFill>
                <a:latin typeface="Palatino Linotype"/>
              </a:rPr>
              <a:t> у току оралнохируршке интервенције представљају непредвиђени или предвиђени нежељени догађај који отежава или продужава извођење саме интервен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предупредио настанак евентуалних компликација у току рада у хируршкој сали, пре свега, треба се придржавати неких општих правила поступа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икад не треба преносити преко лица и очију пацијента хируршке инструменте, поготову оштр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нструменти се додају са стране пацијента, а никако преко њег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 радити са прегрејаним инструментима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6"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3102-3F18-4CB0-81CE-F1D02DCEF1C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9" name="TextBox 6"/>
          <p:cNvSpPr/>
          <p:nvPr/>
        </p:nvSpPr>
        <p:spPr>
          <a:xfrm>
            <a:off x="444600" y="1647720"/>
            <a:ext cx="8350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ИБРОЗНО ЗАРАСТА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изостанак калцификације створеног везивног ткива у регији оперативног дефекта, који се и више година после операције, на радиографији, уочава као расветљење у односу на околно коштано ткив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е разлози за фиброзно зарастање и то с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обе коштане компак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камбијалног слоја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клузална тра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в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а појава је у овим случајевима нормалан али недовршен вид зараста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D524-6864-4605-BF9D-4F7882AC972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09680" y="1889280"/>
            <a:ext cx="8253360" cy="4795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и раду са инструментима из више делова , увек треба проверити да</a:t>
            </a:r>
            <a:r>
              <a:rPr b="0" lang="en-US" sz="2000" spc="-1" strike="noStrike">
                <a:solidFill>
                  <a:srgbClr val="000000"/>
                </a:solidFill>
                <a:latin typeface="Palatino Linotype"/>
              </a:rPr>
              <a:t> </a:t>
            </a:r>
            <a:r>
              <a:rPr b="0" lang="sr-CS" sz="2000" spc="-1" strike="noStrike">
                <a:solidFill>
                  <a:srgbClr val="000000"/>
                </a:solidFill>
                <a:latin typeface="Palatino Linotype"/>
              </a:rPr>
              <a:t>ли су међусобно причвр</a:t>
            </a:r>
            <a:r>
              <a:rPr b="0" lang="en-US" sz="2000" spc="-1" strike="noStrike">
                <a:solidFill>
                  <a:srgbClr val="000000"/>
                </a:solidFill>
                <a:latin typeface="Palatino Linotype"/>
              </a:rPr>
              <a:t>ш</a:t>
            </a:r>
            <a:r>
              <a:rPr b="0" lang="sr-CS" sz="2000" spc="-1" strike="noStrike">
                <a:solidFill>
                  <a:srgbClr val="000000"/>
                </a:solidFill>
                <a:latin typeface="Palatino Linotype"/>
              </a:rPr>
              <a:t>ће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оку хируршких интервенција, компликације могу да се дого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извођења инци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рада са бројним хируршким инструментима и</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ушива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95CD-7214-4E8B-A6CF-89AD9B39A33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80960" y="1936800"/>
            <a:ext cx="819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7"/>
          <p:cNvSpPr/>
          <p:nvPr/>
        </p:nvSpPr>
        <p:spPr>
          <a:xfrm>
            <a:off x="433440" y="1697040"/>
            <a:ext cx="8182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извођењу инци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вођење инцизије је релативно безбедан поступак ако се поштују основни принцип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ебно треба водити рачуна да се при извођењу инцизије непотребно не повреде неке значајније анатомске структуре у пределу у коме се опериш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у је најбезбедније изводити по врху алвеоларног гребена , где не постоји могућност повреде већих крвних судова од капила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0920" y="-36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AD0F-0295-4102-A5FA-495AFA06C27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1" name="TextBox 9"/>
          <p:cNvSpPr/>
          <p:nvPr/>
        </p:nvSpPr>
        <p:spPr>
          <a:xfrm>
            <a:off x="396720" y="1671480"/>
            <a:ext cx="8302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у инцизију треба планирати тако да се избегава предео доњих премолара, због могуће повреде менталног неуроваскуларног сноп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 извођењу вертикалних инцизија у моларном пределу доње вилице, рез треба изводити идући одоздо навише јер, у противном, ако се изгуби ослонац руке скалпелом је могуће повредити фацијалну артерију или вену које прелазе преко доње ивице мандибу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е инцизије треба чинити у односу на руб алвеоларног гребена најмање под углом од 45 °, због васкуларизације режњ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1440" y="122040"/>
            <a:ext cx="81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08EA-3C22-4B1E-AB34-5040628B34E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6" name="TextBox 6"/>
          <p:cNvSpPr/>
          <p:nvPr/>
        </p:nvSpPr>
        <p:spPr>
          <a:xfrm>
            <a:off x="469800" y="180504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раду са хируршким инструмент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 да настану, у принципу, приликом употребе било ког инструмента у кључујући и клешта за вађење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адекватна употреба распаторија приликом одизања режња може да доведе до цепања гингиве што је јако неповољно ако је режњем потребно затворити ороантралну комуника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картери су инструменти који омогућавају  да хирург има неометан приступ оперативном пољ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луже за придржавање меких ткива ван оперативног поља, али и заштите меких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E5E5-1ABD-4A0A-8CBA-B869B9B2BA6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1" name="TextBox 7"/>
          <p:cNvSpPr/>
          <p:nvPr/>
        </p:nvSpPr>
        <p:spPr>
          <a:xfrm>
            <a:off x="444600" y="16714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раду са екартерима не треба примењивати јак притисак на мека ткива, јер следствено настаје јак постоперативни 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готову јак притисак на базу режња може изазвати тромбозу нутритивних крвних судова режња и компромитовати његову исхра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е су појаве отисака екартера на удаљеним ткивима, као на пример на угловима усана приликом екстракције доњих умња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екартерима треба руковати пажљиво, ослањајући инструменте само на кост, а не на режањ или околна мека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4919-04CB-4FD0-866A-95E6DF6CE6D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96" name="TextBox 10"/>
          <p:cNvSpPr/>
          <p:nvPr/>
        </p:nvSpPr>
        <p:spPr>
          <a:xfrm>
            <a:off x="480960" y="1731960"/>
            <a:ext cx="8182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при раду са машином и сврдлима могу да буду двојаке:  механичке и термич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ханичке повреде најчешће настају ако се при раду са машином не води рачуна о фиксацији руке, па ротирајуће сврдло склизне са површине кости у мек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мичке повреде настају услед загревања ткива машином која се држи прислоњена на мека ткива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авило је да се машина не наслања на мека ткива а при раду у кости оперативно поље треба константно хладити физиолошким раствор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6BB1-BDF0-44BE-B3CB-DC7ADF42FEC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25520" y="15840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1" name="TextBox 6"/>
          <p:cNvSpPr/>
          <p:nvPr/>
        </p:nvSpPr>
        <p:spPr>
          <a:xfrm>
            <a:off x="493560" y="1781280"/>
            <a:ext cx="8132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рварење у току 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неизбежна појава, без обзира на тип саме интервенције, јер увек долази до прекида већег или мањег броја крвних судо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бог примене вазоконстриктора у локалном анестетичком раствору, крварење је у принципу мање изражено, и ретко представља проблем у току хируршких интервенција у локалној анестезији.</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4:47Z</dcterms:modified>
  <cp:revision>1840</cp:revision>
  <dc:subject/>
  <dc:title>NAZIV PREDAVANJA</dc:title>
</cp:coreProperties>
</file>